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DB04-9B55-451E-8933-A288D3B5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AB0-3783-4CCC-8B5B-9F6C9E6655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B455-2588-4311-9B68-0FA0C70694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1C52-E53D-4F00-B0E2-BC6DA060D4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6CC2-6625-4A52-867E-3F938A6F0E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7B4-35DF-46EF-BA82-71F0CCB8D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27E7-E911-49BF-AC98-66F7278C0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44A-4203-4885-9CB6-00D063D48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99EB-33C0-4480-823E-548B4C227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1D60-D23F-4F0D-B835-282226456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BD90-3C5D-4A5D-86E0-89E13DA16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CC2-B913-4DA7-B71E-6BB9C71D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BC9-BDF3-4488-85AC-D729F2C6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A66-F0C7-4A91-BE1E-E801865A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6F6-685A-436F-9AE2-8FAF596D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641-B57C-401D-8C15-7A81695B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7436-EBA1-420F-8B6E-25057931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869A-4405-4B74-A6D8-EB7E4745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B3B8-F756-494B-A7A3-3A467A47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24E4-9C2A-4175-92AA-4A365A1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2BFB-E3AA-4896-899B-9467DFC5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ED8-933F-403F-AF7D-B621D1BA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7DEA-3EB4-42FB-B24D-B920C43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DD8-6FC7-4529-9AA2-47A5486D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76D1-8A5C-4EB8-B0E6-E56152FD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9A76-E4EF-497B-B26F-915295D9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54E4-8507-44A7-B38B-F1074BC4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3480-14E1-4C6C-BD47-89EDCC39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3D3-FFEF-41EF-BAD4-629A65ED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BB7-38DB-4E15-B007-BA64CBD2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DCF-3B15-4B77-9AF3-92E7A535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DC6-8F79-4CD6-9CBE-1CB031E3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D90-E7D7-478D-8011-38A784C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C0F-4B13-4463-91C3-D07D18DC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DA1-8C2F-4763-B341-CF561925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46E5-7221-4DEF-BFC2-94C5072707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664B-7436-4604-9E3D-3EF203934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1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08992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1 by Robin L. Simmons. All Rights Reserved.</dc:description>
  <cp:keywords>pronouns pronoun agreement grammar Grammar Bytes! Robin L. Simmons</cp:keywords>
  <dc:language>en-US</dc:language>
  <cp:lastModifiedBy>Robin L. Simmons</cp:lastModifiedBy>
  <dcterms:modified xsi:type="dcterms:W3CDTF">2011-01-03T19:37:34Z</dcterms:modified>
  <cp:revision>303</cp:revision>
  <dc:subject/>
  <dc:title>Pronoun Agreement</dc:title>
</cp:coreProperties>
</file>